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AF9-FA8A-4CE1-8B31-0CA6E6FD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718-FB34-4400-9AAB-BECA2D4A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A3A-B117-41D5-A48A-554782AC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6D6-8440-4C25-960A-D0B36F16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B792-35D6-474F-81A0-F14797F5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0EE2-4782-4674-AA30-674A1903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1455-8194-4A90-9228-04472635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7E46-5BC2-4C21-80DF-7E209453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F201-B8E7-4B08-B40E-EB28016A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1731-F7EF-40BD-BC89-B3E7FBF8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830E-3831-4F10-9213-E43EA01C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B99-3C01-425F-919B-E8F7BB9F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9C2F-1221-400D-842E-FC503CF3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B93C-639F-4A9B-946F-40DA9534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00B5-9F36-4510-8D8D-463C750B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12E0-BE53-4FA8-B4DC-5A80A561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6B03-0613-40AD-B9B8-740B2DBF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190-31FB-4B52-9152-20FA662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AFA-0AA5-42CC-82E3-C9BC5141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A67-2CE0-4768-83A4-4700FCF1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0C1-A87A-4991-B90B-74D1C649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061-8861-44ED-97B8-A355BAA7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FF0-9007-4087-9836-C1289DC5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B77-E224-45FE-B59F-3F876302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715A-7F6D-4C1C-A2B5-CB1192EA8BB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6303-271A-4F32-8CC9-42CC0C2C5CC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438280" y="3048120"/>
            <a:ext cx="45244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0.1  </a:t>
            </a: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反比例函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520" y="838080"/>
            <a:ext cx="42480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课程标准实验教科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47640" y="1413000"/>
            <a:ext cx="1656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48520" y="5869080"/>
            <a:ext cx="2014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河北教育出版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143000"/>
            <a:ext cx="8001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行车运动员在长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00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路段上骑车训练，行驶全程所用的时间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行驶的平均速度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函数表达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当行驶的平均速度分别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5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行驶全程所用的时间各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5105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250s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000s 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8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8120" y="3135240"/>
                <a:ext cx="14554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11430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个物体对桌面的压力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50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受力面积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压强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P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函数关系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根据写出的函数关系式，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观察上表，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增大还是减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81280"/>
          <a:ext cx="7467480" cy="1143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286000" y="4267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           22.5          15          11.25    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959440" y="1712880"/>
          <a:ext cx="15843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9440" y="1712880"/>
                    <a:ext cx="1584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3382560" y="558468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106668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已知的面积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0c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底边长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cm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高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函数关系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根据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写出的函数关系式，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观察上表，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怎样变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3048120"/>
          <a:ext cx="7467480" cy="1143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715000" y="1523880"/>
                <a:ext cx="1184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2057400" y="3581280"/>
            <a:ext cx="6172200" cy="612000"/>
            <a:chOff x="2057400" y="3581280"/>
            <a:chExt cx="6172200" cy="612000"/>
          </a:xfrm>
        </p:grpSpPr>
        <p:sp>
          <p:nvSpPr>
            <p:cNvPr id="170" name=""/>
            <p:cNvSpPr/>
            <p:nvPr/>
          </p:nvSpPr>
          <p:spPr>
            <a:xfrm>
              <a:off x="2057400" y="373356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          10                                  5           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4787640" y="3581280"/>
                  <a:ext cx="354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"/>
          <p:cNvSpPr/>
          <p:nvPr/>
        </p:nvSpPr>
        <p:spPr>
          <a:xfrm>
            <a:off x="2926080" y="484668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09480" y="3049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家谈谈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143000"/>
            <a:ext cx="8001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前面三个函数表达式有哪些共同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果变量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与变量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乘积总是等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那么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表达式具有前面的特征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你还能举出具有这种函数关系的实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0880" y="3416400"/>
            <a:ext cx="8229600" cy="2064600"/>
            <a:chOff x="380880" y="3416400"/>
            <a:chExt cx="8229600" cy="2064600"/>
          </a:xfrm>
        </p:grpSpPr>
        <p:sp>
          <p:nvSpPr>
            <p:cNvPr id="176" name=""/>
            <p:cNvSpPr/>
            <p:nvPr/>
          </p:nvSpPr>
          <p:spPr>
            <a:xfrm>
              <a:off x="380880" y="3416400"/>
              <a:ext cx="82296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果变量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之间的函数关系可以表示成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常数，且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≠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的形式，则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反比例函数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80880" y="3962520"/>
                  <a:ext cx="1676520" cy="100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480" y="304920"/>
            <a:ext cx="1067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14300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举出生活中具有反比例关系的实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星星电子集团接到了生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00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计算机零部件的任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请写出用生产这批零部件所要用的时间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t(h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表示每小时生产零部件个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函数表达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下列函数中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哪些是反比例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24280" y="2583000"/>
                <a:ext cx="1447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038480"/>
                <a:ext cx="1295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286000" y="4267080"/>
                <a:ext cx="13716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486400" y="5257800"/>
                <a:ext cx="1258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4038480"/>
                <a:ext cx="145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248520" y="4038480"/>
                <a:ext cx="1930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666880" y="5257800"/>
                <a:ext cx="17082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838080" y="4648320"/>
            <a:ext cx="8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4648320"/>
            <a:ext cx="8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464832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464832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594360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5943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447920" y="251460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：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971800" y="365760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习题 </a:t>
            </a: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.2.3.4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雨林木风</cp:lastModifiedBy>
  <dcterms:modified xsi:type="dcterms:W3CDTF">2009-08-13T09:09:0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